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A48D-A452-4470-A4A4-67EDE62B3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B665-BB5F-40BF-9F06-9E220A1A4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6500-145B-4616-832A-9765471D5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5036-50C7-4410-9290-9D3CCF659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F14C-D72C-4544-B6BA-C17BC0430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65AB-410C-4CE1-B23C-CCE6802B9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9A5B-8199-4AEE-AE0F-7E52E71F1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09E9-0A11-4331-81CB-1C94EBE2B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FABF-6E40-43E9-99D1-2B34E2FE3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1BD0-E25F-4A15-88AC-B6A8672B2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D0FA-FC31-43D4-8A5C-C547D79E3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4663-23C8-44C4-AD81-B80F9A223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569EE-757D-4E51-A463-D5E9D000F1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37840" y="217440"/>
            <a:ext cx="442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ural tube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857680" y="1219320"/>
            <a:ext cx="3429000" cy="3429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44600" y="5222880"/>
            <a:ext cx="839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ural plate-&gt; neural keel-&gt; neural rod-&gt; neural tube-&gt; spinal c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eds in and anterior to posterior fash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The image “http://www.ans.iastate.edu/research/reecy/images/reecy/reecy_image5.gif” cannot be displayed, because it contains errors."/>
          <p:cNvPicPr/>
          <p:nvPr/>
        </p:nvPicPr>
        <p:blipFill>
          <a:blip r:embed="rId1"/>
          <a:stretch/>
        </p:blipFill>
        <p:spPr>
          <a:xfrm>
            <a:off x="3838680" y="457200"/>
            <a:ext cx="3247920" cy="53244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378800" y="3657600"/>
            <a:ext cx="151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ural cr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895480" y="3352320"/>
            <a:ext cx="45720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48120" y="3886200"/>
            <a:ext cx="5331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360440" y="14112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art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6019920"/>
            <a:ext cx="88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wo fields fuse into a tube, which undergoes looping and addition of neural crest ce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4T21:56:26Z</dcterms:created>
  <dc:creator>Melissa Haendel</dc:creator>
  <dc:description/>
  <dc:language>en-US</dc:language>
  <cp:lastModifiedBy>zfin user</cp:lastModifiedBy>
  <dcterms:modified xsi:type="dcterms:W3CDTF">2008-05-19T20:50:24Z</dcterms:modified>
  <cp:revision>5</cp:revision>
  <dc:subject/>
  <dc:title>Slide 1</dc:title>
</cp:coreProperties>
</file>